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6.wmf" ContentType="image/x-wmf"/>
  <Override PartName="/ppt/media/image11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50711-E965-4091-9850-D7E0BFBE95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7FF-050D-4EA8-AB1F-FFB2AF61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A15-D4C1-4425-87D2-980ADDA4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694-1508-4B65-B694-A7CCE015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92D-1601-4349-AFAB-446F3146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F9A-4444-4E33-9F05-43F5D728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BB2-FFFA-468A-AC15-5F85D429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2D5-6891-45C7-9D69-9470E6F8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169-1A96-462E-B63C-C43D4A2D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15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061-022C-4AA1-A5EF-9D72AA5D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C82-A394-4354-9222-F3AF175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1E1-B4F4-4CA2-BBE7-07198DBF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427-3BFA-47A7-B4DB-E0FA83F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67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4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367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7DE22-98FE-4F56-9512-06D35E233C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9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inkzone.wlonk.com/Language/Korean.gif" TargetMode="External"/><Relationship Id="rId2" Type="http://schemas.openxmlformats.org/officeDocument/2006/relationships/hyperlink" Target="http://images.google.ca/images?gbv=2&amp;svnum=10&amp;hl=en&amp;q=Korea+new+year&amp;btnG=Search+Images" TargetMode="External"/><Relationship Id="rId3" Type="http://schemas.openxmlformats.org/officeDocument/2006/relationships/hyperlink" Target="http://images.google.ca/images?q=thanksgiving+day+in+korea&amp;gbv=2&amp;ndsp=20&amp;svnum=10&amp;hl=en&amp;start=0&amp;sa=N" TargetMode="External"/><Relationship Id="rId4" Type="http://schemas.openxmlformats.org/officeDocument/2006/relationships/hyperlink" Target="http://images.google.ca/images?hl=en&amp;q=Seoul&amp;btnG=Search+Images&amp;gbv=2" TargetMode="External"/><Relationship Id="rId5" Type="http://schemas.openxmlformats.org/officeDocument/2006/relationships/hyperlink" Target="http://images.google.ca/images?q=everland+in+seoul&amp;ndsp=20&amp;svnum=10&amp;um=1&amp;hl=en&amp;start=80&amp;sa=N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2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3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4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5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6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7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8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9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0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1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2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3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images.google.com/imgres?imgurl=http://woorinong.maf.go.kr/upload/article/534816390451cb6e059b92132.jpg&amp;imgrefurl=http://woorinong.maf.go.kr/main/php/search_list.php%3Ford%3D1111%26pg%3D39&amp;h=381&amp;w=554&amp;sz=112&amp;hl=en&amp;start=1&amp;tbnid=Z-nBBkAOmZx-fM:&amp;tbnh=91&amp;tbnw=133&amp;prev=/images%3Fq%3D%25EC%2586%25A1%25ED%258E%25B8%26gbv%3D2%26hl%3D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pds5.egloos.com/pds/200702/19/12/b0016312_11022278.jpg&amp;imgrefurl=http://seedark.egloos.com/3007041&amp;h=451&amp;w=300&amp;sz=54&amp;hl=en&amp;start=2&amp;tbnid=tHBUv_DCxXrUdM:&amp;tbnh=127&amp;tbnw=84&amp;prev=/images%3Fq%3D%25EB%2596%25A1%25EA%25B5%25AD%26gbv%3D2%26ndsp%3D20%26hl%3Den%26sa%3D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www.ugokpost.go.kr/img/pro_img/UGF-01_32.jpg&amp;imgrefurl=http://www.ugokpost.go.kr/shop/viewpd_f.php&amp;h=400&amp;w=400&amp;sz=52&amp;hl=en&amp;start=2&amp;tbnid=xV8CXkocxclJ1M:&amp;tbnh=124&amp;tbnw=124&amp;prev=/images%3Fq%3D%25EC%25B9%25B4%25EB%2584%25A4%25EC%259D%25B4%25EC%2585%2598%26gbv%3D2%26ndsp%3D20%26hl%3Den%26sa%3DN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images.google.ca/imgres?imgurl=http://www.korean-arts.com/images/Doll004_3.8x3.8.jpg&amp;imgrefurl=http://www.korean-arts.com/dolls_figurines/wood_and_stoneware/traditional_wedding_dolls_sm.htm&amp;h=365&amp;w=365&amp;sz=27&amp;hl=en&amp;start=78&amp;um=1&amp;tbnid=5nXhUZii8QVvgM:&amp;tbnh=121&amp;tbnw=121&amp;prev=/images%3Fq%3Dkorean%2Btraditional%2Bdress%26start%3D60%26ndsp%3D20%26svnum%3D10%26um%3D1%26hl%3Den%26sa%3DN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a/imgres?imgurl=http://news.joins.com/component/htmlphoto_mmdata/200707/htm_2007071314124930003010-001.JPG&amp;imgrefurl=http://blog.joins.com/lsddch/8264332&amp;h=862&amp;w=540&amp;sz=133&amp;hl=en&amp;start=9&amp;um=1&amp;tbnid=HoRtwht1DqBnkM:&amp;tbnh=145&amp;tbnw=91&amp;prev=/images%3Fq%3D%25ED%2595%259C%25EB%25B3%25B5%26um%3D1%26hl%3Den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ages.google.ca/imgres?imgurl=http://www.redpx.com/graphics/smallMC.jpg&amp;imgrefurl=http://www.redpx.com/links.html&amp;h=333&amp;w=300&amp;sz=16&amp;hl=en&amp;start=2&amp;tbnid=cQvtG_o5LQhKIM:&amp;tbnh=119&amp;tbnw=107&amp;prev=/images%3Fq%3Dtae%2Bkwon%2Bdo%26gbv%3D2%26svnum%3D10%26hl%3Den%26sa%3DX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a/imgres?imgurl=http://www.dkimages.com/discover/previews/982/50396542.JPG&amp;imgrefurl=http://www.dkimages.com/discover/Home/Geography/Europe/Great-Britain/People/Children/Carl-Exeter/Tae-Kwon-do/Tae-Kwon-do-1.html&amp;h=421&amp;w=271&amp;sz=100&amp;hl=en&amp;start=20&amp;tbnid=XEQvDNaUwXJlvM:&amp;tbnh=125&amp;tbnw=80&amp;prev=/images%3Fq%3Dtae%2Bkwon%2Bdo%26gbv%3D2%26svnum%3D10%26hl%3Den%26sa%3DX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images.google.ca/imgres?imgurl=http://www.e-village.jp/earth-c/html/culture0103/gif/us1yut3.JPG&amp;imgrefurl=http://www.e-village.jp/earth-c/html/culture0103/html/000030.html&amp;h=258&amp;w=319&amp;sz=21&amp;hl=en&amp;start=7&amp;tbnid=DMHvtd8lNc0InM:&amp;tbnh=95&amp;tbnw=118&amp;prev=/images%3Fq%3Dyut%26gbv%3D2%26svnum%3D10%26hl%3Den%26sa%3DG" TargetMode="External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ages.google.ca/imgres?imgurl=http://www.korea.net/image/korea/H/08/0402_001l.jpg&amp;imgrefurl=http://www.korea.net/korea/kor_loca.asp%3Fcode%3DH080402&amp;h=240&amp;w=300&amp;sz=39&amp;hl=en&amp;start=7&amp;tbnid=4pWfPAiSwY21tM:&amp;tbnh=93&amp;tbnw=116&amp;prev=/images%3Fq%3Dkorean%2Btaiji%26gbv%3D2%26svnum%3D10%26hl%3Den%26sa%3DG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images.google.ca/imgres?imgurl=http://www.seelotus.com/gojeon/hyeon-dae/su-pil/images/mu-kung-hwa-1.gif&amp;imgrefurl=http://www.seelotus.com/gojeon/hyeon-dae/su-pil/mu-kung-hwa.htm&amp;h=300&amp;w=400&amp;sz=49&amp;hl=en&amp;start=2&amp;tbnid=aTPO1OwGYtsoOM:&amp;tbnh=93&amp;tbnw=124&amp;prev=/images%3Fq%3Dmu%2Bgung%2Bhwa%26gbv%3D2%26ndsp%3D20%26svnum%3D10%26hl%3Den%26sa%3DN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3ff23"/>
                </a:solidFill>
                <a:latin typeface="Bradley Hand ITC"/>
                <a:ea typeface="굴림"/>
              </a:rPr>
              <a:t>SEOUL,SOUTH KOR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3ff23"/>
                </a:solidFill>
                <a:latin typeface="Bradley Hand ITC"/>
                <a:ea typeface="굴림"/>
              </a:rPr>
              <a:t>By:Young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3ff23"/>
                </a:solidFill>
                <a:latin typeface="Bradley Hand ITC"/>
                <a:ea typeface="굴림"/>
              </a:rPr>
              <a:t>Friday March 14,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HERO&amp; FAMOUS PERS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83200" y="1832040"/>
            <a:ext cx="445752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LEE SOON SHIN WAS ONE OF THE MOST FAMOUS HERO IN KOREA. HE WON JAPAN WITH HIS BEST SHIP TURTLE 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YU GWAN SOON IS A HEROINE OF KOREA.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SHE WAS THE ONE WHO MADE THE NATIONAL FLAG, TAE GUK 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76360" y="176364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3280" y="1763640"/>
            <a:ext cx="187308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3280" y="1767960"/>
            <a:ext cx="4457520" cy="499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03280" y="4572000"/>
            <a:ext cx="44654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BIBLIOGRAG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671120"/>
            <a:ext cx="90680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Bradley Hand ITC"/>
                <a:hlinkClick r:id="rId1"/>
              </a:rPr>
              <a:t>http://thinkzone.wlonk.com/Language/Korean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Bradley Hand ITC"/>
              </a:rPr>
              <a:t>http://www.appliedlanguage.com/maps_of_the_world/map_of_korea_south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Bradley Hand ITC"/>
                <a:hlinkClick r:id="rId2"/>
              </a:rPr>
              <a:t>http://images.google.ca/images?gbv=2&amp;svnum=10&amp;hl=en&amp;q=Korea+new+year&amp;btnG=Search+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Bradley Hand ITC"/>
                <a:hlinkClick r:id="rId3"/>
              </a:rPr>
              <a:t>http://images.google.ca/images?q=thanksgiving+day+in+korea&amp;gbv=2&amp;ndsp=20&amp;svnum=10&amp;hl=en&amp;start=0&amp;sa=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gres?imgurl=http://chicagobulletin.com/images/2006-Daley-Plaza3_300.jpg&amp;imgrefurl=http://chicagobulletin.com/20070113/20070111_event_koamday.htm&amp;h=300&amp;w=181&amp;sz=28&amp;hl=en&amp;start=23&amp;um=1&amp;tbnid=6aAYuDBeFDrUfM:&amp;tbnh=116&amp;tbnw=70&amp;prev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Bradley Hand ITC"/>
                <a:hlinkClick r:id="rId4"/>
              </a:rPr>
              <a:t>http://images.google.ca/images?hl=en&amp;q=Seoul&amp;btnG=Search+Images&amp;gb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Bradley Hand ITC"/>
                <a:hlinkClick r:id="rId5"/>
              </a:rPr>
              <a:t>http://images.google.ca/images?q=everland+in+seoul&amp;ndsp=20&amp;svnum=10&amp;um=1&amp;hl=en&amp;start=80&amp;sa=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79520"/>
            <a:ext cx="9067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Bradley Hand ITC"/>
              </a:rPr>
              <a:t>http://images.google.ca/images?q=children%27s+day+in+korea&amp;gbv=2&amp;ndsp=20&amp;svnum=10&amp;hl=en&amp;start=0&amp;sa=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en-GB" sz="1600" spc="-1" strike="noStrike">
                <a:solidFill>
                  <a:srgbClr val="ccccff"/>
                </a:solidFill>
                <a:latin typeface="Bradley Hand ITC"/>
              </a:rPr>
              <a:t>http://images.google.ca/imgres?imgurl=http://chicagobulletin.com/images/2006-Daley-Plaza3_300.jpg&amp;imgrefurl=http://chicagobulletin.com/20070113/20070111_event_koamday.htm&amp;h=300&amp;w=181&amp;sz=28&amp;hl=en&amp;start=23&amp;um=1&amp;tbnid=6aAYuDBeFDrUfM:&amp;tbnh=116&amp;tbnw=70&amp;prev=</a:t>
            </a:r>
            <a:br>
              <a:rPr sz="2800"/>
            </a:br>
            <a:r>
              <a:rPr b="1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q=korean+money&amp;btnG=Search+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2"/>
              </a:rPr>
              <a:t>images.google.ca/images?gbv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3"/>
              </a:rPr>
              <a:t>=2&amp;svnum=10&amp;hl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4"/>
              </a:rPr>
              <a:t>en&amp;sa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5"/>
              </a:rPr>
              <a:t>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6"/>
              </a:rPr>
              <a:t>X&amp;oi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7"/>
              </a:rPr>
              <a:t>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8"/>
              </a:rPr>
              <a:t>spell&amp;resnum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9"/>
              </a:rPr>
              <a:t>=0&amp;ct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0"/>
              </a:rPr>
              <a:t>result&amp;cd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1"/>
              </a:rPr>
              <a:t>=1&amp;q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2"/>
              </a:rPr>
              <a:t>tae+kwon+do&amp;spell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3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Bradley Hand ITC"/>
              </a:rPr>
              <a:t>http://thinkzone.wlonk.com/Language/Korean.gif</a:t>
            </a:r>
            <a:br>
              <a:rPr sz="2000"/>
            </a:br>
            <a:br>
              <a:rPr sz="2800"/>
            </a:br>
            <a:r>
              <a:rPr b="1" lang="en-GB" sz="2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79520"/>
            <a:ext cx="9067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69200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q=korean+games&amp;btnG=Search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q=hwa+tu&amp;btnG=Search+Images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images.google.ca/images?q=mu+gung+hwa&amp;gbv=2&amp;ndsp=20&amp;svnum=10&amp;hl=en&amp;start=0&amp;sa=N</a:t>
            </a: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sa=X&amp;oi=spell&amp;resnum=0&amp;ct=result&amp;cd=1&amp;q=kimchi&amp;spell=1</a:t>
            </a: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www.utkusa.com/images/korea/flag.gif</a:t>
            </a: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k53.pbase.com/v3/13/533813/1/49896350.PusanSept012Fix.jpg</a:t>
            </a: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79520"/>
            <a:ext cx="9067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gres?imgurl=http://cgjbusan.hp.infoseek.co.jp/shiseki/Gyeongnam/Geobukseon/image/Geobukseon01.JPG&amp;imgrefurl=http://cgjbusan.hp.infoseek.co.jp/shiseki/Gyeongnam/Geobukseon/Geobukseon01.html&amp;h=394&amp;w=560&amp;sz=50&amp;hl=en&amp;start=8&amp;tbnid=z5bJX1DhErBFmM:&amp;tbnh=94&amp;tbnw=133&amp;prev=/images%3Fq%3DGeobukseon%26gbv%3D2%26svnum%3D10%26hl%3Den%26sa%3DG</a:t>
            </a:r>
            <a:br>
              <a:rPr sz="2000"/>
            </a:b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sa=X&amp;oi=spell&amp;resnum=0&amp;ct=result&amp;cd=1&amp;q=yu+gwan+sun&amp;spell=1</a:t>
            </a:r>
            <a:br>
              <a:rPr sz="2000"/>
            </a:b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q=korean+taiji&amp;btnG=Search+Images</a:t>
            </a:r>
            <a:br>
              <a:rPr sz="2000"/>
            </a:br>
            <a:br>
              <a:rPr sz="1800"/>
            </a:br>
            <a:br>
              <a:rPr sz="900"/>
            </a:br>
            <a:r>
              <a:rPr b="0" lang="en-GB" sz="9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Bradley Hand ITC"/>
                <a:ea typeface="굴림"/>
              </a:rPr>
              <a:t>THANK YOU FOR LOOKING AT MY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2720" y="4282920"/>
            <a:ext cx="7056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585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33"/>
                </a:solidFill>
                <a:latin typeface="Bradley Hand ITC"/>
                <a:ea typeface="굴림"/>
              </a:rPr>
              <a:t>POPULAR PLA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633680"/>
            <a:ext cx="2016000" cy="160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19280" y="1619280"/>
            <a:ext cx="1621080" cy="162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19640" y="1838160"/>
            <a:ext cx="442764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Bradley Hand ITC"/>
                <a:ea typeface="굴림"/>
              </a:rPr>
              <a:t> 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Ev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It's an amusement park.There are a lot of celebrations,rides and a lot of family, friends, schools and kindergardens come to enjoy.Most  people enjoy it.It's a good place for every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Sungnyem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It's the gate to Seoul.A Long time ago people said that when a citizent would go through the gate they would  be safe. It was Korean's 1</a:t>
            </a:r>
            <a:r>
              <a:rPr b="0" lang="en-GB" sz="2000" spc="-1" strike="noStrike" baseline="33000">
                <a:solidFill>
                  <a:srgbClr val="ffff00"/>
                </a:solidFill>
                <a:latin typeface="Bradley Hand ITC"/>
                <a:ea typeface="굴림"/>
              </a:rPr>
              <a:t>st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treasure. But now it's ruined because there was huge fire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3959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700360" y="3959280"/>
            <a:ext cx="1979640" cy="16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49120" y="2732040"/>
          <a:ext cx="812880" cy="13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120" y="2732040"/>
                    <a:ext cx="81288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33"/>
                </a:solidFill>
                <a:latin typeface="Bradley Hand ITC"/>
                <a:ea typeface="굴림"/>
              </a:rPr>
              <a:t>The Korean Alpha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4425840" cy="4860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13440" y="1850760"/>
            <a:ext cx="44258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re are 21 vowels in the Korean alphab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re are 14 consonants and there are 5 double conson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807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MAP OF SOUTH KORE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9800" y="1767960"/>
            <a:ext cx="44258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Bradley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SOUTH</a:t>
            </a:r>
            <a:r>
              <a:rPr b="0" lang="en-GB" sz="2000" spc="-1" strike="noStrike">
                <a:solidFill>
                  <a:srgbClr val="ffff00"/>
                </a:solidFill>
                <a:latin typeface="Bradley"/>
                <a:ea typeface="굴림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KOREA IS NEAR TO NORTH KOREA, JAPAN, AND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CAPITAL CITY OF SOUTH KOREA IS SEO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4425840" cy="499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3280" y="1619280"/>
            <a:ext cx="4500360" cy="521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80000" y="32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251928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9640" y="19940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0160" y="903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FESTIVAL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00720" y="1260000"/>
            <a:ext cx="442584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SOME OF THE fESTIVALS AND HOLIDAYS WE HAVE IN KOREA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EACHERS DAY:MAY 1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CHILDREN'S DAY: MAY 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ANKS G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DAY:AUGUST 1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  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NEW YEARS 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JANUARY 1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ST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CHRISTMAS: DECEMBER 2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PARENTS DAY : MAY 8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71640" y="1800360"/>
            <a:ext cx="2087640" cy="178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1640" y="3564000"/>
            <a:ext cx="2305080" cy="157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36720" y="3564000"/>
            <a:ext cx="2087640" cy="151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60720" y="5075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575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6360" y="1763640"/>
            <a:ext cx="445752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굴림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RE ARE 4 KINDS OF HAN BOK. HAN BOK IS KOREA'S TRADITIONAL 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FIRST PICTURE IS KOREAN ROAL HAN B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SECOND PICTURE IS NORMAL HAN B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THIRD PICTURE IS WEDDING HAN B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FOURTH PICTURE IS FASHION HAN BO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3280" y="1763640"/>
            <a:ext cx="1650960" cy="1871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32000" y="1763640"/>
            <a:ext cx="2597040" cy="201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360" y="3708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60720" y="3708360"/>
            <a:ext cx="19429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4457520" cy="4994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0360" y="1800000"/>
            <a:ext cx="4457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HERE ARE MORE THAN 7 KINDS OF KIM CH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HERE ARE MORE THAN 10 KINDS OF KIM BAB ITS SIMILAR TO SU SH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1763640"/>
            <a:ext cx="4537080" cy="2638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3280" y="4427640"/>
            <a:ext cx="44654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GAMES &amp;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3280" y="1763640"/>
            <a:ext cx="4457520" cy="4991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0360" y="1849320"/>
            <a:ext cx="4457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AE KWON DO IS KOREAN  SPORT. THERE IS 6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HERE IS 2 MOST FAMOUS GAME. THE FRIST ONE IS YUT NOL LI AND THE SECOND ONE IS HWA 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80" y="1763640"/>
            <a:ext cx="2071800" cy="2303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2360" y="1763640"/>
            <a:ext cx="2349360" cy="230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3280" y="4067280"/>
            <a:ext cx="208908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2592360" y="4067280"/>
            <a:ext cx="237636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SYMBOL, FLOWER&amp;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4457520" cy="499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13440" y="1767960"/>
            <a:ext cx="44575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AI JI IS SOUTH KOREAN SYMB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KOREAN MONEY IS CHANGED IN TO NEW ONES.WE USE WON IN KO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H E KOREAN FLOWER IS CALLED MU GOUNG H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80" y="1763640"/>
            <a:ext cx="244944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952720" y="176364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3280" y="5003640"/>
            <a:ext cx="4465440" cy="17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슬라이드 1</dc:title>
</cp:coreProperties>
</file>